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62A-758D-4FAB-A359-943B2D84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33C-F639-415E-B4EC-BA00F7FD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0C9-AFC6-4ED9-BAEB-24C6EAFF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50E-1816-4790-8D1F-9E33357A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678-5D57-4907-BB16-0D93BE2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F4F-CFF1-4154-98C6-686118A5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188-6B20-438A-AF04-7BC6C50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2EE-641C-47B3-929D-CD6C4EC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889-5156-40FA-A3B9-E18BD283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040-E939-4541-A2D9-A5C6729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0B4-8FD6-4C0C-BC0E-965B007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729-532E-428F-91E5-9C75048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49E-0539-4DD4-B0DD-EDC8D413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rees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472428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533520"/>
            <a:ext cx="7315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Reeses Peanut Butter Cup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ve a rastada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Reese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1784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4724280"/>
            <a:ext cx="6934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eese’s Peanut Butter Cu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ree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45720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se’s Peanut Butter Cups are loved by many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Reese’s Peanut butter 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1920 the Reese’s peanut butter cups were born in Frosty hill in York county in Pennsylvania on May, 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8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fore, Harry called the peanut butter cups penny cups because they were sold for one 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 manufacturing plant was 100,000 sq. ft. and it opened in August 19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der The Hershey’s company’s hands, the Reese’s franchise has continued to thrive and exp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ese’s peanut butter cups were loved by many people and still are toda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Harry Burnett R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invented the Reese’s peanut butter cups in the 192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grew up working on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married around 19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had 16 k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was hired to work the Hershey’s dairy farm in Hershey, 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le working there he caught the candy fever and started making candy creations in his ba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1920 he set up his own company called the HB Reese Candy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ese died of a heart attack on May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19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34Z</dcterms:created>
  <dc:creator>install</dc:creator>
  <dc:description/>
  <dc:language>en-US</dc:language>
  <cp:lastModifiedBy>install</cp:lastModifiedBy>
  <dcterms:modified xsi:type="dcterms:W3CDTF">2010-05-12T17:35:44Z</dcterms:modified>
  <cp:revision>7</cp:revision>
  <dc:subject/>
  <dc:title>Slide 1</dc:title>
</cp:coreProperties>
</file>